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jpeg" ContentType="image/jpeg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2CE8-D0BE-4A5E-9DC6-3A2478AC1D6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E5F3-71B7-4F1A-89A5-734A3C18F0B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1844-87E4-4EE1-B845-DFC6B213ECD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BFAF-D7DB-4CDF-A148-D49E7654BB7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1C0E-7CC5-4DE4-8597-C2A6399C354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9260-42E3-4800-8F52-A097C49CF42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D2AC-1351-4884-9487-6700A1B36E9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F640-021C-497A-B463-FD66D1D8561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6C4-A385-4528-886B-090CFE96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E55-AF90-439E-9CF0-CF9891C2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482-4C3B-4738-9FC1-176AA1D7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213-36D1-4039-83A7-A782ABC3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E2B5-799A-4351-9DC0-02E60593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594-B9BF-4E78-8594-12112DF2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99A-4E83-406D-A3D1-47057728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4C3-5145-4742-8E10-B8B4A998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294-9196-46F9-A022-74F13737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5D7-220D-4307-A7E8-CFF69CBD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4D1-CDFD-4AAB-B1B8-13182988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625-2102-44DD-BDB9-BC170E1A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7" descr=""/>
          <p:cNvPicPr/>
          <p:nvPr/>
        </p:nvPicPr>
        <p:blipFill>
          <a:blip r:embed="rId2"/>
          <a:stretch/>
        </p:blipFill>
        <p:spPr>
          <a:xfrm>
            <a:off x="7732800" y="6045120"/>
            <a:ext cx="4286160" cy="67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B1C5-2D1A-4F0A-BB29-E73AA817CAB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2" descr=""/>
          <p:cNvPicPr/>
          <p:nvPr/>
        </p:nvPicPr>
        <p:blipFill>
          <a:blip r:embed="rId1"/>
          <a:stretch/>
        </p:blipFill>
        <p:spPr>
          <a:xfrm>
            <a:off x="0" y="-79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0040"/>
            <a:ext cx="804096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SULTADO DO REGIME GERAL DE PREVIDÊNCIA SOCIAL – RGPS 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Retângulo 3"/>
          <p:cNvSpPr/>
          <p:nvPr/>
        </p:nvSpPr>
        <p:spPr>
          <a:xfrm>
            <a:off x="8253360" y="230040"/>
            <a:ext cx="36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Junho/20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98360" y="4549680"/>
            <a:ext cx="34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ECRETARIA DE PREVIDÊ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34800" y="8244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m 1" descr=""/>
          <p:cNvPicPr/>
          <p:nvPr/>
        </p:nvPicPr>
        <p:blipFill>
          <a:blip r:embed="rId1"/>
          <a:stretch/>
        </p:blipFill>
        <p:spPr>
          <a:xfrm>
            <a:off x="423720" y="730080"/>
            <a:ext cx="11344320" cy="539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-57240" y="0"/>
            <a:ext cx="12192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nho de 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Imagem 1" descr=""/>
          <p:cNvPicPr/>
          <p:nvPr/>
        </p:nvPicPr>
        <p:blipFill>
          <a:blip r:embed="rId1"/>
          <a:stretch/>
        </p:blipFill>
        <p:spPr>
          <a:xfrm>
            <a:off x="2228760" y="1052640"/>
            <a:ext cx="773424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63520" y="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Imagem 1" descr=""/>
          <p:cNvPicPr/>
          <p:nvPr/>
        </p:nvPicPr>
        <p:blipFill>
          <a:blip r:embed="rId1"/>
          <a:stretch/>
        </p:blipFill>
        <p:spPr>
          <a:xfrm>
            <a:off x="2228760" y="1157400"/>
            <a:ext cx="7734240" cy="45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TENDÊNCI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, DESPESA E NECESSIDADE DE FINANCIA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63360"/>
            <a:ext cx="12192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 e Despesa com Benefícios Previdenciários, nos últimos 25 mes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20 - INPC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3360" y="62355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m 1" descr=""/>
          <p:cNvPicPr/>
          <p:nvPr/>
        </p:nvPicPr>
        <p:blipFill>
          <a:blip r:embed="rId1"/>
          <a:stretch/>
        </p:blipFill>
        <p:spPr>
          <a:xfrm>
            <a:off x="1528920" y="711360"/>
            <a:ext cx="9134280" cy="53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147600"/>
            <a:ext cx="12134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Arrecadação Líqu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Corrente, Recuperação de Créditos e Transferência a Terceiros, nos últimos 25 mes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20 - INP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1920" y="625788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Imagem 1" descr=""/>
          <p:cNvPicPr/>
          <p:nvPr/>
        </p:nvPicPr>
        <p:blipFill>
          <a:blip r:embed="rId1"/>
          <a:stretch/>
        </p:blipFill>
        <p:spPr>
          <a:xfrm>
            <a:off x="1528920" y="1082520"/>
            <a:ext cx="91342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28440"/>
            <a:ext cx="121921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Despesa com Benefícios Previdenciá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Pagos pelo INSS e Sentenças Judiciais nos últimos 25 mese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Em R$ bilhões de Junho/2020 (INP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1"/>
          <a:stretch/>
        </p:blipFill>
        <p:spPr>
          <a:xfrm>
            <a:off x="1528920" y="1049400"/>
            <a:ext cx="99057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52560" y="104760"/>
            <a:ext cx="121395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a Previdência Social nos últimos 25 meses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20 - INP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2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Imagem 1" descr=""/>
          <p:cNvPicPr/>
          <p:nvPr/>
        </p:nvPicPr>
        <p:blipFill>
          <a:blip r:embed="rId1"/>
          <a:stretch/>
        </p:blipFill>
        <p:spPr>
          <a:xfrm>
            <a:off x="804960" y="873000"/>
            <a:ext cx="103521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139680"/>
            <a:ext cx="12192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por Clientela – Média móvel de 12 mes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11 a Junho/2020)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/2020 - INP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m 1" descr=""/>
          <p:cNvPicPr/>
          <p:nvPr/>
        </p:nvPicPr>
        <p:blipFill>
          <a:blip r:embed="rId1"/>
          <a:stretch/>
        </p:blipFill>
        <p:spPr>
          <a:xfrm>
            <a:off x="544680" y="896760"/>
            <a:ext cx="1081404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6600" y="0"/>
            <a:ext cx="12042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– Média móvel de 12 mes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11 a Junho/2020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20 (INPC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magem 1" descr=""/>
          <p:cNvPicPr/>
          <p:nvPr/>
        </p:nvPicPr>
        <p:blipFill>
          <a:blip r:embed="rId1"/>
          <a:stretch/>
        </p:blipFill>
        <p:spPr>
          <a:xfrm>
            <a:off x="1528920" y="763560"/>
            <a:ext cx="10156680" cy="52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EMITI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ESTOQU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1219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Emitidos Administrados pelo INSS –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Arial Unicode MS"/>
              </a:rPr>
              <a:t> Junho/2019, Maio/2020 e Junho/202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34800" y="6502320"/>
            <a:ext cx="108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a Cidadani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m 2" descr=""/>
          <p:cNvPicPr/>
          <p:nvPr/>
        </p:nvPicPr>
        <p:blipFill>
          <a:blip r:embed="rId1"/>
          <a:stretch/>
        </p:blipFill>
        <p:spPr>
          <a:xfrm>
            <a:off x="503280" y="433440"/>
            <a:ext cx="11166480" cy="56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541440"/>
            <a:ext cx="1219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11 e Junho de 2020, a quantidade de benefícios previdenciários e acidentários emitidos pela Previdência aumentou 22,7%, passando de 25,2 milhões para 30,9 milhõ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680" y="122400"/>
            <a:ext cx="1218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volução da Quantidade de Benefícios Emitidos pelo INSS</a:t>
            </a:r>
            <a:r>
              <a:rPr b="1" i="1" lang="pt-BR" sz="1600" spc="-1" strike="noStrike">
                <a:solidFill>
                  <a:srgbClr val="ed7d31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milhões de benefícios - 2011 a 2019 (dezembro), 2020 (Junh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6026040"/>
            <a:ext cx="78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a Cidadani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m 1" descr=""/>
          <p:cNvPicPr/>
          <p:nvPr/>
        </p:nvPicPr>
        <p:blipFill>
          <a:blip r:embed="rId1"/>
          <a:stretch/>
        </p:blipFill>
        <p:spPr>
          <a:xfrm>
            <a:off x="260280" y="998640"/>
            <a:ext cx="1174428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60480"/>
            <a:ext cx="12109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alor Médio Real dos Benefícios Pagos pelo INSS (2013 a 2020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Média de Janeiro a Junho de cada ano – Em R$ de Junho/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66840" y="546120"/>
            <a:ext cx="11544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 valor médio real dos benefícios da Previdência Social atingiu R$ 1.650,81 na média de Janeiro a Junho de 2020, o que representou um crescimento de 27,4% em relação ao mesmo período de 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27,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5"/>
          <p:cNvSpPr/>
          <p:nvPr/>
        </p:nvSpPr>
        <p:spPr>
          <a:xfrm flipV="1">
            <a:off x="3187800" y="5229360"/>
            <a:ext cx="3375000" cy="63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6"/>
          <p:cNvSpPr/>
          <p:nvPr/>
        </p:nvSpPr>
        <p:spPr>
          <a:xfrm flipH="1">
            <a:off x="7608960" y="2558880"/>
            <a:ext cx="3271680" cy="2533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92240" y="631188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Imagem 1" descr=""/>
          <p:cNvPicPr/>
          <p:nvPr/>
        </p:nvPicPr>
        <p:blipFill>
          <a:blip r:embed="rId1"/>
          <a:stretch/>
        </p:blipFill>
        <p:spPr>
          <a:xfrm>
            <a:off x="444600" y="1249200"/>
            <a:ext cx="11299680" cy="48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09440" y="6080040"/>
            <a:ext cx="760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s: DATAPREV, SUB, SINTESE.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bs.: A existência de benefícios com valores inferiores ao salário mínimo deve-se ao desmembramento de pensões e ao pagamento de benefícios como o salário-família, o auxílio suplementar, o auxílio acidente e o abono de permanência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729320" y="158580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Cerca de 67,3% dos benefícios pagos pelo INSS em Junho/2020 possuíam o valor de até um salário mínimo, o que representa um contingente de 24,1 milhões de beneficiários direto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84120" y="163440"/>
            <a:ext cx="1080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buição de Benefícios Emitidos, segundo faixas de Val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Pisos Previdenciários (Posição Junho/20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m 1" descr=""/>
          <p:cNvPicPr/>
          <p:nvPr/>
        </p:nvPicPr>
        <p:blipFill>
          <a:blip r:embed="rId1"/>
          <a:stretch/>
        </p:blipFill>
        <p:spPr>
          <a:xfrm>
            <a:off x="217440" y="763560"/>
            <a:ext cx="11628360" cy="51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m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69840"/>
            <a:ext cx="12192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9 e 2020) – Em R$ milhões de Junho/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61815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1" descr=""/>
          <p:cNvPicPr/>
          <p:nvPr/>
        </p:nvPicPr>
        <p:blipFill>
          <a:blip r:embed="rId1"/>
          <a:stretch/>
        </p:blipFill>
        <p:spPr>
          <a:xfrm>
            <a:off x="299880" y="1219320"/>
            <a:ext cx="11592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12192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9 e 2020) –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62406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m 1" descr=""/>
          <p:cNvPicPr/>
          <p:nvPr/>
        </p:nvPicPr>
        <p:blipFill>
          <a:blip r:embed="rId1"/>
          <a:stretch/>
        </p:blipFill>
        <p:spPr>
          <a:xfrm>
            <a:off x="299880" y="1209600"/>
            <a:ext cx="11592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12192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9 e 2020) – Em R$ milhões de Junho/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6320" y="605808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781200" y="1552680"/>
            <a:ext cx="106297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87480"/>
            <a:ext cx="12192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9 e 2020) –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0" y="61722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m 1" descr=""/>
          <p:cNvPicPr/>
          <p:nvPr/>
        </p:nvPicPr>
        <p:blipFill>
          <a:blip r:embed="rId1"/>
          <a:stretch/>
        </p:blipFill>
        <p:spPr>
          <a:xfrm>
            <a:off x="781200" y="1571760"/>
            <a:ext cx="106297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12840" y="63360"/>
            <a:ext cx="1080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 de 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0" y="62895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m 1" descr=""/>
          <p:cNvPicPr/>
          <p:nvPr/>
        </p:nvPicPr>
        <p:blipFill>
          <a:blip r:embed="rId1"/>
          <a:stretch/>
        </p:blipFill>
        <p:spPr>
          <a:xfrm>
            <a:off x="423720" y="771480"/>
            <a:ext cx="113443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13:56:17Z</dcterms:created>
  <dc:creator>Jamil Miranda Ghani</dc:creator>
  <dc:description/>
  <dc:language>en-US</dc:language>
  <cp:lastModifiedBy>Colegiado</cp:lastModifiedBy>
  <dcterms:modified xsi:type="dcterms:W3CDTF">2020-07-29T19:19:46Z</dcterms:modified>
  <cp:revision>47</cp:revision>
  <dc:subject/>
  <dc:title>Apresentação do PowerPoint</dc:title>
</cp:coreProperties>
</file>